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81686-FC0B-47E8-BE52-F1AC3B9B6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E299-3D5B-43FB-8E1E-7B947ECA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1744-4A1C-426E-BA32-FFE1449E8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B9C77-1DA7-4D8D-B427-A17903217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ECC26-016E-47D4-8F64-B0F95F86E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E9904-201A-4A4A-954D-99DFB727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27252-454B-4B79-B4D2-E6131AACF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A1E64-8F46-4A71-AE2F-A3436B0F3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BDB36-8A95-46F1-AB05-EF0FD17FE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BFB60-6A55-41BD-8438-345996C6F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004B-44F5-40F6-8E70-C4EDEB781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03CC-9817-47DD-86A8-CB5F135E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2BA8-E06E-47DE-82E1-327954E88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6E7BE-1353-4CE4-86A1-E3EAC586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2768F-AB98-4022-A755-D9FF65135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50453-0D88-4F6C-8C2E-D0DA4E739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72EE8-D8DC-4232-AD0D-8D0D4016B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5EA7B-6039-4C54-8D56-FD78F6CF5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3D82-C2A0-4596-ADA4-9FBCA3A08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7018-00FE-4B17-A5F0-B7C90EFA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637A-FEDF-46D6-AF59-A658D9E4C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396EE-1448-48AC-A5E0-FC7E4D63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62D2-81A2-4A11-97A0-64833BC8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805CB-6194-4837-A9C9-3DA1C9B43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63BD-C6D7-42FE-AF4A-9152E336D76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3DD2-071F-4720-80DD-1C0C42EC7EF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t>
            </a:r>
            <a:r>
              <a:rPr b="0" lang="en-US" sz="5400" spc="-1" strike="noStrike">
                <a:solidFill>
                  <a:srgbClr val="dbbd71"/>
                </a:solidFill>
                <a:latin typeface="Arial"/>
              </a:rPr>
              <a:t>The Other Blue Book”</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de Book of Masonic L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The Trial Process</a:t>
            </a:r>
            <a:endParaRPr b="0" lang="en-US" sz="5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77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nalties of UnMasonic Conduct</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iman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pen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ul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able of Content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 of Incorporation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nstitution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arges of a Freemason</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y Laws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olutions of the Grand Lodge</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de for Government of Lodg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s and Trial Procedur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emoni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e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ince 1995, we have…</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recognized the Prince Hall Grand Lodge of Ohio as a legitimate organization.</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changed the age of majority to 19 years.</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approved Plural Membership.</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made changes in the requirements of catechism.</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eliminated the requirement that a Petition be held over for a certain number of meetings before it can be balloted upon.</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allowed a Past Master to carry a proxy for one of the three principal officers of a Lodge.</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eliminated the requirement that a Masonic meeting be opened before an social event.</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changed our code 34.01 to read “I would be proud to sponsor you for membership.”</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 dur="1000"/>
                                        <p:tgtEl>
                                          <p:spTgt spid="157">
                                            <p:txEl>
                                              <p:pRg st="0" end="0"/>
                                            </p:txEl>
                                          </p:spTgt>
                                        </p:tgtEl>
                                      </p:cBhvr>
                                    </p:animEffect>
                                    <p:anim calcmode="lin" valueType="num">
                                      <p:cBhvr additive="repl">
                                        <p:cTn id="8"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4" dur="1000"/>
                                        <p:tgtEl>
                                          <p:spTgt spid="157">
                                            <p:txEl>
                                              <p:pRg st="1" end="1"/>
                                            </p:txEl>
                                          </p:spTgt>
                                        </p:tgtEl>
                                      </p:cBhvr>
                                    </p:animEffect>
                                    <p:anim calcmode="lin" valueType="num">
                                      <p:cBhvr additive="repl">
                                        <p:cTn id="15"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1" dur="1000"/>
                                        <p:tgtEl>
                                          <p:spTgt spid="157">
                                            <p:txEl>
                                              <p:pRg st="2" end="2"/>
                                            </p:txEl>
                                          </p:spTgt>
                                        </p:tgtEl>
                                      </p:cBhvr>
                                    </p:animEffect>
                                    <p:anim calcmode="lin" valueType="num">
                                      <p:cBhvr additive="repl">
                                        <p:cTn id="22"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8" dur="1000"/>
                                        <p:tgtEl>
                                          <p:spTgt spid="157">
                                            <p:txEl>
                                              <p:pRg st="3" end="3"/>
                                            </p:txEl>
                                          </p:spTgt>
                                        </p:tgtEl>
                                      </p:cBhvr>
                                    </p:animEffect>
                                    <p:anim calcmode="lin" valueType="num">
                                      <p:cBhvr additive="repl">
                                        <p:cTn id="29" dur="1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57">
                                            <p:txEl>
                                              <p:pRg st="4" end="4"/>
                                            </p:txEl>
                                          </p:spTgt>
                                        </p:tgtEl>
                                        <p:attrNameLst>
                                          <p:attrName>style.visibility</p:attrName>
                                        </p:attrNameLst>
                                      </p:cBhvr>
                                      <p:to>
                                        <p:strVal val="visible"/>
                                      </p:to>
                                    </p:set>
                                    <p:animEffect filter="fade" transition="in">
                                      <p:cBhvr additive="repl">
                                        <p:cTn id="35" dur="1000"/>
                                        <p:tgtEl>
                                          <p:spTgt spid="157">
                                            <p:txEl>
                                              <p:pRg st="4" end="4"/>
                                            </p:txEl>
                                          </p:spTgt>
                                        </p:tgtEl>
                                      </p:cBhvr>
                                    </p:animEffect>
                                    <p:anim calcmode="lin" valueType="num">
                                      <p:cBhvr additive="repl">
                                        <p:cTn id="36" dur="1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5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2" dur="1000"/>
                                        <p:tgtEl>
                                          <p:spTgt spid="157">
                                            <p:txEl>
                                              <p:pRg st="5" end="5"/>
                                            </p:txEl>
                                          </p:spTgt>
                                        </p:tgtEl>
                                      </p:cBhvr>
                                    </p:animEffect>
                                    <p:anim calcmode="lin" valueType="num">
                                      <p:cBhvr additive="repl">
                                        <p:cTn id="43" dur="10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5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9" dur="1000"/>
                                        <p:tgtEl>
                                          <p:spTgt spid="157">
                                            <p:txEl>
                                              <p:pRg st="6" end="6"/>
                                            </p:txEl>
                                          </p:spTgt>
                                        </p:tgtEl>
                                      </p:cBhvr>
                                    </p:animEffect>
                                    <p:anim calcmode="lin" valueType="num">
                                      <p:cBhvr additive="repl">
                                        <p:cTn id="50" dur="10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5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57">
                                            <p:txEl>
                                              <p:pRg st="7" end="7"/>
                                            </p:txEl>
                                          </p:spTgt>
                                        </p:tgtEl>
                                        <p:attrNameLst>
                                          <p:attrName>style.visibility</p:attrName>
                                        </p:attrNameLst>
                                      </p:cBhvr>
                                      <p:to>
                                        <p:strVal val="visible"/>
                                      </p:to>
                                    </p:set>
                                    <p:animEffect filter="fade" transition="in">
                                      <p:cBhvr additive="repl">
                                        <p:cTn id="56" dur="1000"/>
                                        <p:tgtEl>
                                          <p:spTgt spid="157">
                                            <p:txEl>
                                              <p:pRg st="7" end="7"/>
                                            </p:txEl>
                                          </p:spTgt>
                                        </p:tgtEl>
                                      </p:cBhvr>
                                    </p:animEffect>
                                    <p:anim calcmode="lin" valueType="num">
                                      <p:cBhvr additive="repl">
                                        <p:cTn id="57" dur="10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5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de or By-Law Amendments MUST be…</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sponsored by not less than five members of the Grand Lodge.</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duced to writing and filed with the Grand Secretary</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ntered upon the minutes of the Grand Lodge</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id over until the next Annual Communication of the Grand Lodge. It may, however, be acted upon immediately if no more than 25 of the members of the Grand Lodge ob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003 Proposed Legislation</a:t>
            </a:r>
            <a:endParaRPr b="0" lang="en-US" sz="4400" spc="-1" strike="noStrike">
              <a:solidFill>
                <a:srgbClr val="dbbd71"/>
              </a:solidFill>
              <a:latin typeface="Arial"/>
            </a:endParaRPr>
          </a:p>
        </p:txBody>
      </p:sp>
      <p:sp>
        <p:nvSpPr>
          <p:cNvPr id="161"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A – Mandatory retirement for Lodge Secretaries over 70, or after 10 years of serv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B – Changes the SNPD effective date from 12/31 to 03/31</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C – Allows business in the EA Degre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D – Allows alcohol in any room not dedicated to Freemasonr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E – Allows the Grand Master to suspend a Brother who has committed a crime until he has been tried</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F – Institutes an “Historical Lodge” system</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G – Requires all Ohio Lodges to include “Masonic” in their name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H – Limits frequency of a Grand Master’s Class to no more than one every four yea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65" dur="500"/>
                                        <p:tgtEl>
                                          <p:spTgt spid="16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70" dur="500"/>
                                        <p:tgtEl>
                                          <p:spTgt spid="16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75" dur="500"/>
                                        <p:tgtEl>
                                          <p:spTgt spid="16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80" dur="500"/>
                                        <p:tgtEl>
                                          <p:spTgt spid="16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85" dur="500"/>
                                        <p:tgtEl>
                                          <p:spTgt spid="16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90" dur="500"/>
                                        <p:tgtEl>
                                          <p:spTgt spid="16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95" dur="500"/>
                                        <p:tgtEl>
                                          <p:spTgt spid="16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100"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Sections 40 - 45</a:t>
            </a:r>
            <a:endParaRPr b="0" lang="en-US" sz="5400" spc="-1" strike="noStrike">
              <a:solidFill>
                <a:srgbClr val="dbbd71"/>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onic T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viction of a Felony</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 appoints a committee to obtain a certified copy of the Judgment Order and determine if the person named is a Lodge member.</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on verification, the WM charges the Brother </a:t>
            </a:r>
            <a:r>
              <a:rPr b="0" i="1" lang="en-US" sz="3200" spc="-1" strike="noStrike">
                <a:solidFill>
                  <a:srgbClr val="ffffff"/>
                </a:solidFill>
                <a:latin typeface="Tahoma"/>
              </a:rPr>
              <a:t>in writing</a:t>
            </a:r>
            <a:r>
              <a:rPr b="0" lang="en-US" sz="3200" spc="-1" strike="noStrike">
                <a:solidFill>
                  <a:srgbClr val="ffffff"/>
                </a:solidFill>
                <a:latin typeface="Tahoma"/>
              </a:rPr>
              <a:t> of UnMasonic Conduct and forwards it to the Grand Secretary.</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nd Secretary transmits the charges to the Trial Commissioner-in-Chief, RWB Morton Negin, for proceed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07" dur="500"/>
                                        <p:tgtEl>
                                          <p:spTgt spid="16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112" dur="500"/>
                                        <p:tgtEl>
                                          <p:spTgt spid="16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117"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harges Other than a Felony</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ral or written complaint of UnMasonic Conduct is made to the WM.</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M, at the next meeting, refers the complaint to committee.</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mittee must attempt to reconcile the matter with the parties involved.</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matter requires action, charges are reported and entered in the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4" dur="500"/>
                                        <p:tgtEl>
                                          <p:spTgt spid="16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29" dur="500"/>
                                        <p:tgtEl>
                                          <p:spTgt spid="16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34" dur="500"/>
                                        <p:tgtEl>
                                          <p:spTgt spid="16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39"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rial Commission</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l Commissioner-in-Chief</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or more Trial Commissio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Judge Advoca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9:08:44Z</dcterms:created>
  <dc:creator>Preferred Customer</dc:creator>
  <dc:description/>
  <dc:language>en-US</dc:language>
  <cp:lastModifiedBy>Preferred Customer</cp:lastModifiedBy>
  <dcterms:modified xsi:type="dcterms:W3CDTF">2003-06-25T17:38:53Z</dcterms:modified>
  <cp:revision>11</cp:revision>
  <dc:subject/>
  <dc:title>“The Other Blue Book”</dc:title>
</cp:coreProperties>
</file>