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296C-E80D-44B1-90A2-83F8CF29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EDA-1872-4595-9D93-DA3467E4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00D2-9B56-43DE-8B2C-CA592A6E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7D0B-B0AB-41CF-9D80-D9F88996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DE0-577D-4A29-A8AC-A214BDAA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9004-892C-4262-AC37-6F544D13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9230-2401-4BA8-9D61-A3247FDC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021-B3D6-4DA7-8CC2-5DBB7CC4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0C16-0EBE-4DD6-8785-18D37549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337A-A2C3-4F7B-B2AE-42DA30DA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74E-F24B-4BF4-B72D-1158FC50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B8DC-10B4-4398-8AC4-549A15F6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2C2C-0ECD-4962-8C4A-87E2F4F3E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cacf"/>
                </a:solidFill>
                <a:latin typeface="Arial"/>
              </a:rPr>
              <a:t>Grand Master’s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971440" y="3809880"/>
            <a:ext cx="5791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cacf"/>
                </a:solidFill>
                <a:latin typeface="Arial"/>
              </a:rPr>
              <a:t>Freemasonr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cacf"/>
                </a:solidFill>
                <a:latin typeface="Arial"/>
              </a:rPr>
              <a:t>A Blueprint for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cacf"/>
                </a:solidFill>
                <a:latin typeface="Arial"/>
              </a:rPr>
              <a:t>2003-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cacf"/>
                </a:solidFill>
                <a:latin typeface="Arial"/>
              </a:rPr>
              <a:t>Goals for Lodge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Goal 1.  Ritual Pro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2.  Lodge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3.  Famil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4.  Youth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5.  Masonic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6.  Charitable G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7.  Community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cacf"/>
                </a:solidFill>
                <a:latin typeface="Arial"/>
              </a:rPr>
              <a:t>Grand Master’s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cac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89cacf"/>
                </a:solidFill>
                <a:latin typeface="Arial"/>
              </a:rPr>
              <a:t>Each Goal will be part of the Grand Master’s Award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cac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cac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9cacf"/>
                </a:solidFill>
                <a:latin typeface="Arial"/>
              </a:rPr>
              <a:t>All Lodges are encouraged to strive and attain all of the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cac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cac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9cacf"/>
                </a:solidFill>
                <a:latin typeface="Arial"/>
              </a:rPr>
              <a:t>Masonic Districts also have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68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68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7:14:38Z</dcterms:created>
  <dc:creator>Steven J. Krekus</dc:creator>
  <dc:description/>
  <dc:language>en-US</dc:language>
  <cp:lastModifiedBy>Preferred Customer</cp:lastModifiedBy>
  <dcterms:modified xsi:type="dcterms:W3CDTF">2003-06-24T13:30:06Z</dcterms:modified>
  <cp:revision>7</cp:revision>
  <dc:subject/>
  <dc:title>Grand Masters Program</dc:title>
</cp:coreProperties>
</file>