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BF1-75BA-494D-A6BB-BB9827E7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6C1-BA28-4A68-8B8D-6B1190F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154-69D5-4244-BA6D-4ECF0948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81A-336D-4E6C-903C-16BADB6E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BD1-0C30-436E-AA89-A144974A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727-ABCF-4FCF-8EFC-07B7047C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46C-8869-47B2-91B1-2ED05BF5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392-C145-437C-8828-6E1CCFB4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A92-5378-4FEF-8D35-79C51FF1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4DB-6816-4F42-BC1F-3D9F0E68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B9C-7BB8-4FD3-995F-BEEA98E7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9E7-1382-4F47-8167-03BB87E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DE3B-1AF7-4A15-B420-1A9D449EA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309251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81680" cy="3581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571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the Pil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5334120"/>
            <a:ext cx="1752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72428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e orga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el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Know what you want and who you want to oversee the project to see that it’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fraternal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all you can about your members and their families to help you develop interesting programs that will keep your members returning to Lod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members to be creative and encourag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up on the progr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ere is a need for both the traditional and non-traditional member in your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open to new ideas with regards to planning activities for the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cause you did it that way in the past, may not be the way of 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not talking about the ritual-I’m talking about the leadership of the Master and offi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ch thing as bad luck, just poor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l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is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e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llows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committees with an active chairman and have them give reports back to the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s need to know what is going on in their Lodge and off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lanning your year, you should remember what your role as Master should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ttract, retain, and motivate your members to return to Lodge, participate  and promote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are going to attract and keep the new member we must listen to what their concerns are and respond to make Lodge meetings an enjoyable and rewarding  experience for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Leadershi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8580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committees with a chairman and have them give reports to the Lodge. The members need to know what is going on in their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nd your officers need to work and develop the new leaders in your Lodge if we are going to be successful in the futu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7000" cy="527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73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study groups to learn ritual, lectures and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degree team for each degree and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a Past Master to each officer as a mentor and c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9500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laning for the future remember the words of General George S. Pa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plan executed right now is far better than a perfect plan executed next week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8036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ility to motivate people to do what you as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14400" cy="525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92052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are the leader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920520" cy="526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like you and me who when asked will take charge and motivate people to do more than they think they can achi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people or plans fa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have here is a failure to communic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!  As Master of your Lodge have the responsibility to lead and motivate the members and officers of your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you are the Master and responsible for leadership and operation of your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2:01:50Z</dcterms:created>
  <dc:creator>User's Name</dc:creator>
  <dc:description/>
  <dc:language>en-US</dc:language>
  <cp:lastModifiedBy>User's Name</cp:lastModifiedBy>
  <cp:lastPrinted>2002-06-21T20:00:09Z</cp:lastPrinted>
  <dcterms:modified xsi:type="dcterms:W3CDTF">2002-06-22T02:40:41Z</dcterms:modified>
  <cp:revision>11</cp:revision>
  <dc:subject/>
  <dc:title>Building the Pillars</dc:title>
</cp:coreProperties>
</file>