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D823-CDAF-486A-B5E3-CD301BCDD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D7AD-6014-457A-B65A-0F268AB9E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98A6-E3DB-4FB5-A9E9-8F35ED5B3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F5FC-D0BE-4DF4-A357-5FD286CD7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36DC-084A-488F-9FCA-F55BE750B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C8A7-BF2F-46A7-B12F-1423775B2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BC6F-B593-4D9A-B0E4-4FAEFD458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D128-6E3D-4F11-9D3E-22DE267A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45F5-9DCB-43B7-9C60-A7A48E089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D9A0-3049-4C4F-85F8-CD0C775C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F593-6DF6-4F70-BF54-B2B9982E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82CE-BD42-4479-802C-ECFFB3F5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C26B1-E01C-4C5E-9CCF-1F75177739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808000"/>
                </a:solidFill>
                <a:latin typeface="Times New Roman"/>
              </a:rPr>
              <a:t>Freemasonry</a:t>
            </a:r>
            <a:br>
              <a:rPr sz="8000"/>
            </a:br>
            <a:r>
              <a:rPr b="0" lang="en-US" sz="8000" spc="-1" strike="noStrike">
                <a:solidFill>
                  <a:srgbClr val="808000"/>
                </a:solidFill>
                <a:latin typeface="Times New Roman"/>
              </a:rPr>
              <a:t> and </a:t>
            </a:r>
            <a:br>
              <a:rPr sz="8000"/>
            </a:br>
            <a:r>
              <a:rPr b="0" lang="en-US" sz="8000" spc="-1" strike="noStrike">
                <a:solidFill>
                  <a:srgbClr val="808000"/>
                </a:solidFill>
                <a:latin typeface="Times New Roman"/>
              </a:rPr>
              <a:t>Religion</a:t>
            </a:r>
            <a:endParaRPr b="0" lang="en-US" sz="8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28800" y="1981080"/>
            <a:ext cx="5410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Freemasonry is not a Relig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1981080"/>
            <a:ext cx="5410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Freemasonry is not a Relig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1981080"/>
            <a:ext cx="5410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Freemasonry is not a Relig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oes_GCc3" descr=""/>
          <p:cNvPicPr/>
          <p:nvPr/>
        </p:nvPicPr>
        <p:blipFill>
          <a:blip r:embed="rId1"/>
          <a:stretch/>
        </p:blipFill>
        <p:spPr>
          <a:xfrm>
            <a:off x="2209680" y="1219320"/>
            <a:ext cx="473580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mohmedal" descr=""/>
          <p:cNvPicPr/>
          <p:nvPr/>
        </p:nvPicPr>
        <p:blipFill>
          <a:blip r:embed="rId1"/>
          <a:stretch/>
        </p:blipFill>
        <p:spPr>
          <a:xfrm>
            <a:off x="2895480" y="1066680"/>
            <a:ext cx="332748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1981080"/>
            <a:ext cx="5410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Freemasonry is not a Relig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1981080"/>
            <a:ext cx="5410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Freemasonry is not a Relig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g-sq-com_small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3638520" cy="3431880"/>
          </a:xfrm>
          <a:prstGeom prst="rect">
            <a:avLst/>
          </a:prstGeom>
          <a:ln w="0">
            <a:noFill/>
          </a:ln>
        </p:spPr>
      </p:pic>
      <p:pic>
        <p:nvPicPr>
          <p:cNvPr id="61" name="bible" descr=""/>
          <p:cNvPicPr/>
          <p:nvPr/>
        </p:nvPicPr>
        <p:blipFill>
          <a:blip r:embed="rId2"/>
          <a:stretch/>
        </p:blipFill>
        <p:spPr>
          <a:xfrm>
            <a:off x="4191120" y="2057400"/>
            <a:ext cx="436860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5T05:43:29Z</dcterms:created>
  <dc:creator>Michael A. Himes</dc:creator>
  <dc:description/>
  <dc:language>en-US</dc:language>
  <cp:lastModifiedBy>Michael A. Himes</cp:lastModifiedBy>
  <dcterms:modified xsi:type="dcterms:W3CDTF">2003-07-17T04:39:43Z</dcterms:modified>
  <cp:revision>2</cp:revision>
  <dc:subject/>
  <dc:title>Freemasonry and Religion</dc:title>
</cp:coreProperties>
</file>