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726-CF89-4DBF-8958-F1D2A444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520-7CA7-4E70-937A-4E6A038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D03-5637-40C5-AAE7-7178188D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C41-3078-4C6C-8C5F-9DCC7075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537D-39DB-401E-A8A9-2440B005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5B53-5A62-4D02-BA77-43A868C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4B11-008F-4AC6-8ADC-35253250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2A39-BD20-47CB-BF77-21E3C03C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7101-7FD5-4EAC-BB20-4457F558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0B8E-6C40-4A7B-8996-479897E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8071-D472-406F-9ECC-CD1334C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CA8-0316-4C28-BD2B-6B69511A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0AC9-853C-4ECF-B159-2ECD1D2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C3BB-5C7A-488B-AAA1-5BCA7D5B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34B7-69C0-48D5-9ED1-114B53B7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74F-B5B1-45B4-A3F7-BD5E3460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9ADD-F0DD-476F-9D41-72A39406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476-84A3-4BEF-B040-1C7DE1FD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C02-9DB8-440B-8051-73ED44B9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FA8-FFA7-4ADF-99C4-8FA1CDF6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1CE-69D5-4AD6-9C40-F0DA3D04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512-D4EF-4ACB-B5BA-E807C3C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82F-49DF-49C1-BD73-E85A486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D55-3FC1-4B39-80A2-EB5E3C2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C201-E206-4E1F-9E38-FA369DA2003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AB44-432D-4BC8-8AB8-71697B1A986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Lodge Offic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all Offic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members feel wel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Masonic education and lear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tivate and encou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men join the Craft looking for opportunities, satisfaction, and service as well as personal grow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f the customer doesn’t find what he wants her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e will go somewhere else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Mas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65360"/>
            <a:ext cx="397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 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itte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&amp; Fina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tual Profici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cture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ide over Stated &amp; Special Meet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665000"/>
            <a:ext cx="39495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y w/ Grand Lodge Communi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y with Grand Lodge Rules &amp; Re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dge Insp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onic Funer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Rel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dge 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tallation of Success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enior Ward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miliar w/ Master’s Du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 in Master’s abs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 the business of the Lod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Committee 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Lodge Fina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the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Lodge proced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lection of Appointive Offic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Junior Ward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tualistic Du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in the Master’s and Senior Warden’s abs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 Opening, Closing &amp; Conferring of Degre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st Senior Warden in Special Fun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y Grand Lodge Code &amp; Hand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enior &amp; Junior Deac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tualis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Treasur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e &amp; deposit mon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y b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ecret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rtually all of the Lodge’s operations not covered by the Treasur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Ty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equipment for Masonic Funer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spit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ing Committ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tewar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pection of Candidates in Prep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tualistic Du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reshment Committ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5:20:08Z</dcterms:created>
  <dc:creator>Chad Simpson</dc:creator>
  <dc:description/>
  <dc:language>en-US</dc:language>
  <cp:lastModifiedBy>Mark Bernardin</cp:lastModifiedBy>
  <dcterms:modified xsi:type="dcterms:W3CDTF">2003-06-30T14:08:27Z</dcterms:modified>
  <cp:revision>7</cp:revision>
  <dc:subject/>
  <dc:title>Duties of the Lodge Officers</dc:title>
</cp:coreProperties>
</file>