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D74-0B81-45FF-A1CE-769E1CCC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A98-87A6-4C86-BA99-779E8495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886-04C2-4B8B-A547-0C388AE6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F16-D652-4055-BC4B-68667CB6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43A3-932D-46C8-9250-4DB9984A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28E-A4F5-4D71-9845-8BEF32E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B377-927E-4C9F-B560-AEA42AD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F290-C60F-42C6-AE8A-439A3A70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FD0-C1BE-476F-9634-5E89C9D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F5A2-30AB-4FBF-9144-13C33A3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5166-43C2-4391-91CE-BC78F51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C6E-EBE5-4C4F-A98E-274D446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CAB9-598D-4B0C-9F93-CB8657A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500-6018-4991-AA18-1825F9E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8AE-735A-4924-9121-CD34EDE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FAE-EC5B-43F8-9B16-C8EDB796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67D5-0DF0-4871-8928-21D287C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D2D-E977-41C5-B7E0-29FD33E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C20-ABD7-476B-AAF8-6D301EF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538-48D4-4110-8801-C2956B2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DE1-A761-4846-9294-5CFE1D9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78-85CC-4A6E-AE73-86E70FA1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743-7F09-4DAC-9021-7DF50B9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5C8-9AC7-444F-92F9-57C1271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875-8D85-41A2-A175-92C1C3C93E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F659-200F-4EF9-949B-32C0D37E13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PER PROTOCO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ILLARS OF LEADERSHI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LUTATION OF LETTE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N. JOHN D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 OF MASONS IN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3 ASHLAR D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EDETHA, OHIO 45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WORSHIPFUL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R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VI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SENT WELL IN ADV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MAP OR DIR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ENCY PHONE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LL PERTIN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D EVENT, PLACE, TIME, DRESS, DINNER OR REFRESHMEN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QU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DING OFFICER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KING GUEST NEXT TO H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ING DISTINGUISHED GUESTS ALTERNATE FROM SIDE TO SIDE BY R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DIES ARE NEVER ON THE END OF TH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Y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AD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LODGE OFFI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RS MANU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22-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T DISTRICT DEPUTIES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OINTIVE OFFICERS-GRAND LODGE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OINTIVE OFFICERS-OTHER GRAND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IVE AND APPOINTIVE OFFICERS OF RECOGNIZED MASONIC GRAND BO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TLES - OHIO OFFIC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ONLY WHEN THE OFFICE IS HELD, EX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HIPFUL” FOR PAST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HT WORSHIPFUL” FOR PAST DISTRICT DEPUTIES AND ASSOCIATE GRAND CHAPL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WORSHIPFUL” FOR PAST GRAND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T GRAND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TREASU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SECRET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IOR GRAND WA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IOR GRAND WA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SPONDING VISITING OFFIC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IES NOT IN THEIR ASSIGNED 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UTY GRAND MAST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IES IN THEIR ASSIGNED DISTRI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UTY GRAND MASTER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VATE GRAND HON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GIVEN BY MASTER MA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GIVEN IN A MASTER MASON LO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RESPOND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ONIC TITLE IS NEVER USED ON CORRESPO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R. JOHN D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3 ASHLAR D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EDETHA, OHIO 45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2:50:45Z</dcterms:created>
  <dc:creator>Michael A. Himes</dc:creator>
  <dc:description/>
  <dc:language>en-US</dc:language>
  <cp:lastModifiedBy>Michael A. Himes</cp:lastModifiedBy>
  <cp:lastPrinted>2002-06-21T21:40:11Z</cp:lastPrinted>
  <dcterms:modified xsi:type="dcterms:W3CDTF">2003-07-01T02:58:24Z</dcterms:modified>
  <cp:revision>4</cp:revision>
  <dc:subject/>
  <dc:title>PROPER PROTOCOL  </dc:title>
</cp:coreProperties>
</file>