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F64C-390F-42AB-B1BA-CB1610DE2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0472-28A1-44BF-B7FD-D2CC9AF9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7044-491B-471C-A320-7B9F7DC6D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A5CC-FAE3-4D7C-BC25-DB39AC754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A9D4-425A-4BDB-814D-31A7B787C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82F6-24B8-4945-B6A8-C7A320B1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BE6B-4EB4-444D-9A9A-95DCB0AC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6DE1-0BA9-4FFE-B6BB-29A44C35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00E8-FCCA-4AC5-8D1C-850AB271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E0C1-E8B1-4585-95FC-78ABBC25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11B2-3E41-424C-8DB9-CEFFDBA4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9DFE-0497-4E90-A331-A8F0B818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EB83-D5C3-4312-9348-6AD6BF62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D1B2-FDC0-4A50-B778-AEFB1138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2407-A71B-4728-B293-27B1863B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497C-281A-4940-BFC5-61036C458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76F7-5342-491F-BA35-10DE8EE35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0343-8CBC-4DA2-B857-ECB6CC82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A01F-F72F-4EDF-9FD0-DC12022F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5507-FE84-4388-95E4-49F32362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84D9-63EE-4550-A141-63F7A4D6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AD3E-54F4-40DF-9AFA-C9FAA4AF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33C7-2A43-409A-9C0D-ACC9F2BD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FD22-DEE4-4894-A80B-B98B54DE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5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5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1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1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5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0101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0101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4B0C-8B18-4D04-BA57-05D0820020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5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5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1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1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5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0101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0101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3E92-FE6B-4197-882A-DE8120C8A7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192096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mpetencies For Management In The 21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Centur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Commit to Excellence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on Membership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Leadership Factor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vide Dir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ad Courageous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ster Team 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ach &amp; Develo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Self Management Factor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monstrate Adapt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velop Onesel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Thinking Factor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 Sound Judg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nov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Interpersonal Factor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splay Organizational Savv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nage Disagre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lue Divers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Communication Factor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unicate Appropriate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eak Effective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sten to Oth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pare Written Commun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6T14:47:30Z</dcterms:created>
  <dc:creator>Preferred Customer</dc:creator>
  <dc:description/>
  <dc:language>en-US</dc:language>
  <cp:lastModifiedBy>Preferred Customer</cp:lastModifiedBy>
  <dcterms:modified xsi:type="dcterms:W3CDTF">2003-06-26T14:57:19Z</dcterms:modified>
  <cp:revision>2</cp:revision>
  <dc:subject/>
  <dc:title>Competencies For Management In The 21st Century</dc:title>
</cp:coreProperties>
</file>